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C645-8BEA-4053-BF92-D34492B0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C08-1D72-4F6C-B3D0-C57B075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8D0-54C3-4D47-ABB3-8A477586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79C-55F9-4FA0-B48B-8BD866E4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8BF-CD42-4B98-8236-DAC925A4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8CF0-4438-4953-BFA0-8EF92F8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3EC7-5205-4A3D-87BC-17FA48E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A8EA-2C32-4192-B8E1-F1630FAF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B87A-96AA-4592-81AE-9692F07D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5A2A-0B26-4E7D-B960-FC56C71B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89E2-035C-47E7-B627-9B82813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FAF-C248-47FE-B321-0736CDAA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38F6-4A1A-4EDF-9E2B-5E10E9D3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EC79-7510-4609-B1F4-039D2847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9B03-CD3D-485F-8CB1-9048A30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6901-AA1A-4554-BB57-FC4540D8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E69F-3547-4247-B351-771034BB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3E7-39B0-46AB-9FC9-348EA0EF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5013-EB0D-4389-AFF2-E3B267C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98E-738A-416E-8862-6EA8258A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9EB-7EFA-4458-BFBD-26044207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ECD0-AC37-4580-8344-314708B1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38-AFB8-4656-A9F3-1580FD0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03BF-1DEF-4DA0-A311-BE3C1B33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6D60-656B-40BD-87BF-E4AE1DD4FE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907-BFD6-4423-B3CE-0801BBE0F5E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righton Deba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1311"/>
                </a:solidFill>
                <a:latin typeface="Arial"/>
              </a:rPr>
              <a:t>Flowing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Take a piece of paper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lengthwise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agai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Fold it in half again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Do the same thing to 2 other pieces of paper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one page write: Inherenc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another: Harms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n the other: Solvency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th your papers unfolded and the fold lines running top to bottom, write across the top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1A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A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C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1NR 1AR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NR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b3d03"/>
                </a:solidFill>
                <a:latin typeface="Arial"/>
              </a:rPr>
              <a:t>2A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o this to all three pag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Let’s flow a debate.  We need two very organized volunteer teams to deba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pic:  Appropriate Clothing for Schoo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ffirmative:  Strict clothing rules or even unifor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egative:  Where what we want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Flowin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iming and Structur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AC, 1NC, 2AC, 2NC = 3 minutes eac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NR, 1AR, 2NR, 2AR = 2 minutes each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No CX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22:19:08Z</dcterms:created>
  <dc:creator>Mark Greer</dc:creator>
  <dc:description/>
  <dc:language>en-US</dc:language>
  <cp:lastModifiedBy>Mark Greer</cp:lastModifiedBy>
  <dcterms:modified xsi:type="dcterms:W3CDTF">2010-11-21T22:48:05Z</dcterms:modified>
  <cp:revision>2</cp:revision>
  <dc:subject/>
  <dc:title>Brighton Debate</dc:title>
</cp:coreProperties>
</file>